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542-C243-4098-A744-546CE5C0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94B-3B55-4638-9060-15E8E59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AF4-E858-4856-AC5A-2986E412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686-B88B-4844-8A41-4EC8BA21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ECA-4CDA-4E7C-8559-6325576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CE0-0349-4BEA-80F4-0F7F8D8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0F4-616B-4AD7-A417-CED96CF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0BA-AA92-4D7B-837C-033879D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D7E-0396-4841-B24A-31E70A9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854-7415-4E27-87BE-D9C9CC0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C10-0076-4D41-9A23-ED4B447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4FC-7B1E-4E51-97CE-85C6C2D0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8FC-42D5-453B-B349-7757FDDF6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048120" cy="410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762120"/>
            <a:ext cx="678168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1,2,3 Dracula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Un, deux, trois Dracula… Un, deux, trois Dracul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0968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Compte avec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Je suis le Com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Le Comte, le Comte,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334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Rockwell Extra Bold"/>
              </a:rPr>
              <a:t>Un- deux- tr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3124080" cy="33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178272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8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24280" y="4435560"/>
            <a:ext cx="1782720" cy="24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30492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Rockwell Extra Bold"/>
              </a:rPr>
              <a:t>Compte avec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Rockwell Extra Bold"/>
              </a:rPr>
              <a:t>Je suis le Comte le comte  le comte Dra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0574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Quatre, cinq, six, sept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Quatre, cinq, six, sept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Un, deux, trois,quatre, cinq, six, s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92716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4:12:30Z</dcterms:created>
  <dc:creator>SIMMS</dc:creator>
  <dc:description/>
  <dc:language>en-US</dc:language>
  <cp:lastModifiedBy>TONY SIMMS</cp:lastModifiedBy>
  <dcterms:modified xsi:type="dcterms:W3CDTF">2005-03-09T19:59:10Z</dcterms:modified>
  <cp:revision>7</cp:revision>
  <dc:subject/>
  <dc:title>PowerPoint Presentation</dc:title>
</cp:coreProperties>
</file>